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Eigh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nswers Outside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, Neigh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son or Freed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l Associatio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us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fs that Actions are Morally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s on the Significance of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s Become Part of Self-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l Towards or Away from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a 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ing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emnation of Condem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l to Higher Loyal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ing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racing Labels—Outlaw Bi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 of Labels—Saints and Roughn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es Moral Boundaries and Affirms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Social 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Soci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Deviance Be Funct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Values Produce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 Leads to An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the act itself, but the reactions to the act, that make something deviant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ard Becker, 19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ov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t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ea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be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Deviant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qual Access to Institutional Means to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e-Collar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egitimate Opportunity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, Crime, and the Criminal Justi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and In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w as an Instrument of Op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d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line of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d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ath Penalty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line of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t to Some is not Deviant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” is Nonjudgmental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ble with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ization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ther Mental nor Illn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less Mentally 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More Humane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ion of Norms as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ion of Rules or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g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mishes on “Normal”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 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orms - Social Cha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’s Formal and Informal Means of Enforcing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s Make Social Lif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ming is a Sa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Centerpiece of Public Ri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tion Cerem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ming and Degradation Ceremo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nswers Inside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redis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s on Abnormalities Within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ity Dis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t Pers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51F7-8E77-485B-ACD7-393E5D0D9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7F99A-685E-4352-8369-F10854748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5C5FB-437F-400E-AF4E-F8FF4BE8C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45806-7A3F-472C-A3EB-F55471DEA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DA432-E3F4-42F8-BEDB-CAF76588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41890-CAB1-4889-9997-68F94A75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053F3-48D1-4470-B9CC-E92F0CD1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947F1-19C7-4B41-B1C3-4098CBDB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70A2C-3434-4592-ADAC-62ECD37D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EC48D-3192-46A5-8768-7AA366F8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2E194-DFC7-4252-8510-2330B5E6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C9AD9-730A-4EE6-934C-D453C9710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AD467-AB3B-4D07-8767-B78C2721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CC772-BD16-4E73-A676-5DB8FB81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7132E-EDB4-4F8C-9879-9FDD462E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6F785-F9EF-44E7-997C-13882ECC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55966-DB60-42E5-B2B9-6B66D92B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5BF8E-36BD-40C6-AF3E-D7C28F1B4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4EAED-E74A-4771-823A-1C3D095DA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BBF8F-7B8E-4DED-93B7-62F3A0AC0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DD12F-2E54-443C-9E5A-36840158A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434A9-DBBA-40C8-86EB-5612BAB3D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F8ED2-B373-4A69-BBC7-ECD427A07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9D50C-4E7B-4F90-A513-C24C50D57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90D2-B7EF-4DC1-B436-48E5E41DFF18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8:Deviance and Social Control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7216-DD4C-4CB2-BF14-68B4276006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048120" y="3733920"/>
            <a:ext cx="5105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Eight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eviance and Social Control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ok for Answers Outside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1219320"/>
            <a:ext cx="78487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6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iends, Neighbo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ub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son or Freedom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ifferential Association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0" dur="1" fill="hold"/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ner Contr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us Princip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228600"/>
            <a:ext cx="72392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19764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uter Contr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ttach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mit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volve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fs that Actions are Morally Wro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304920"/>
            <a:ext cx="76201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3" dur="1" fill="hold"/>
                                  <p:tgtEl>
                                    <p:spTgt spid="1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cuses on the Significance of Labe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bels Become Part of Self-Concep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pel Towards or Away from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abeling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2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Responsi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Inju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a Victi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jecting Labe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1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demnation of Condemn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eal to Higher Loyal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jecting Labe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5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bracing Labels—Outlaw Bi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ower of Labels—Saints and Roughneck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228600"/>
            <a:ext cx="79250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abeling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9" dur="1" fill="hold"/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rifies Moral Boundaries and Affirms No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motes Social Un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motes Soci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an Deviance Be Functional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8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Values Produce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al Go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itutional Me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ain Leads to Anomi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train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2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is not the act itself, but the reactions to the act, that make something deviant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0" algn="r">
              <a:lnSpc>
                <a:spcPct val="2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6300"/>
                </a:solidFill>
                <a:latin typeface="Times New Roman"/>
              </a:rPr>
              <a:t>Howard Becker, 1966</a:t>
            </a:r>
            <a:endParaRPr b="1" lang="en-US" sz="20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82880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Devianc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novato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itu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treat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bell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ur Deviant Path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6" dur="1" fill="hold"/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equal Access to Institutional Means to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eet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ite-Collar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llegitimate Opportunity Struc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0" dur="1" fill="hold"/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9" name="Picture 5" descr="C:\PowerPoint Work\Allyn &amp; Bacon\2005 Work\Henslin 8ed\Artwork\08-01.jpg"/>
          <p:cNvPicPr/>
          <p:nvPr/>
        </p:nvPicPr>
        <p:blipFill>
          <a:blip r:embed="rId1"/>
          <a:stretch/>
        </p:blipFill>
        <p:spPr>
          <a:xfrm>
            <a:off x="1295280" y="380880"/>
            <a:ext cx="6553440" cy="615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, Crime, and the Criminal Justice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and Inequ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aw as an Instrument of Oppress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Conflic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9" dur="1" fill="hold"/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eet Crime and Pris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8" dur="1" fill="hold"/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7" name="Picture 3" descr="C:\PowerPoint Work\Allyn &amp; Bacon\2005 Work\Henslin 8ed\Artwork\08-02.jpg"/>
          <p:cNvPicPr/>
          <p:nvPr/>
        </p:nvPicPr>
        <p:blipFill>
          <a:blip r:embed="rId1"/>
          <a:stretch/>
        </p:blipFill>
        <p:spPr>
          <a:xfrm>
            <a:off x="2505240" y="33480"/>
            <a:ext cx="4133520" cy="6789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idiv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066680" y="2057400"/>
            <a:ext cx="6324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Street Crime and Prisons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ecline of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2" dur="1" fill="hold"/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3" name="Picture 6" descr="C:\PowerPoint Work\Allyn &amp; Bacon\2005 Work\Henslin 8ed\Artwork\08-03.jpg"/>
          <p:cNvPicPr/>
          <p:nvPr/>
        </p:nvPicPr>
        <p:blipFill>
          <a:blip r:embed="rId1"/>
          <a:stretch/>
        </p:blipFill>
        <p:spPr>
          <a:xfrm>
            <a:off x="1676520" y="228600"/>
            <a:ext cx="55465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Recidiv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eath Penalty Bia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066680" y="2057400"/>
            <a:ext cx="6324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Street Crime and Prison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Decline of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9" name="Picture 3" descr="C:\PowerPoint Work\Allyn &amp; Bacon\2005 Work\Henslin 8ed\Artwork\08-04.jpg"/>
          <p:cNvPicPr/>
          <p:nvPr/>
        </p:nvPicPr>
        <p:blipFill>
          <a:blip r:embed="rId1"/>
          <a:stretch/>
        </p:blipFill>
        <p:spPr>
          <a:xfrm>
            <a:off x="685800" y="380880"/>
            <a:ext cx="7620120" cy="612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ative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is Deviant to Some is not Deviant to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ce” is Nonjudgmental Te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806400"/>
            <a:ext cx="51818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Devianc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71" name="Group 7"/>
          <p:cNvGrpSpPr/>
          <p:nvPr/>
        </p:nvGrpSpPr>
        <p:grpSpPr>
          <a:xfrm>
            <a:off x="2743200" y="380880"/>
            <a:ext cx="2971800" cy="5943600"/>
            <a:chOff x="2743200" y="380880"/>
            <a:chExt cx="2971800" cy="5943600"/>
          </a:xfrm>
        </p:grpSpPr>
        <p:pic>
          <p:nvPicPr>
            <p:cNvPr id="172" name="Picture 3" descr="C:\PowerPoint Work\Allyn &amp; Bacon\2005 Work\Henslin 8ed\Artwork\08-05.jpg"/>
            <p:cNvPicPr/>
            <p:nvPr/>
          </p:nvPicPr>
          <p:blipFill>
            <a:blip r:embed="rId1"/>
            <a:srcRect l="0" t="0" r="0" b="78289"/>
            <a:stretch/>
          </p:blipFill>
          <p:spPr>
            <a:xfrm>
              <a:off x="2895480" y="380880"/>
              <a:ext cx="2541600" cy="2667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73" name="Picture 4" descr="C:\PowerPoint Work\Allyn &amp; Bacon\2005 Work\Henslin 8ed\Artwork\08-05.jpg"/>
            <p:cNvPicPr/>
            <p:nvPr/>
          </p:nvPicPr>
          <p:blipFill>
            <a:blip r:embed="rId2"/>
            <a:srcRect l="0" t="73955" r="0" b="0"/>
            <a:stretch/>
          </p:blipFill>
          <p:spPr>
            <a:xfrm>
              <a:off x="2895480" y="3124080"/>
              <a:ext cx="2541600" cy="3200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sp>
          <p:nvSpPr>
            <p:cNvPr id="174" name="AutoShape 6"/>
            <p:cNvSpPr/>
            <p:nvPr/>
          </p:nvSpPr>
          <p:spPr>
            <a:xfrm>
              <a:off x="2743200" y="2895480"/>
              <a:ext cx="2971800" cy="304920"/>
            </a:xfrm>
            <a:custGeom>
              <a:avLst/>
              <a:gdLst>
                <a:gd name="textAreaLeft" fmla="*/ 0 w 2971800"/>
                <a:gd name="textAreaRight" fmla="*/ 2972160 w 2971800"/>
                <a:gd name="textAreaTop" fmla="*/ 39240 h 304920"/>
                <a:gd name="textAreaBottom" fmla="*/ 265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buClr>
                  <a:srgbClr val="996633"/>
                </a:buClr>
                <a:buSzPct val="60000"/>
                <a:buFont typeface="Wingdings" charset="2"/>
                <a:buChar char="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g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ouble with Stat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dicalization of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85520" indent="-2624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either Mental nor Illness?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85520" indent="-2624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meless Mentally Ill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ed for More Humane Approa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066680" y="1219320"/>
            <a:ext cx="80773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6" dur="1" fill="hold"/>
                                  <p:tgtEl>
                                    <p:spTgt spid="1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Henslin final"/>
          <p:cNvPicPr/>
          <p:nvPr/>
        </p:nvPicPr>
        <p:blipFill>
          <a:blip r:embed="rId1"/>
          <a:stretch/>
        </p:blipFill>
        <p:spPr>
          <a:xfrm>
            <a:off x="22096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ime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ation of Norms as Law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ce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ation of Rules or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igma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Blemishes on “Normal” Ident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654120"/>
            <a:ext cx="647712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viance Termin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Norms - Social Chao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ontrol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oup’s Formal and Informal Means of Enforcing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1027"/>
          <p:cNvSpPr/>
          <p:nvPr/>
        </p:nvSpPr>
        <p:spPr>
          <a:xfrm>
            <a:off x="1066680" y="806400"/>
            <a:ext cx="6400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Norms Make Social Life Possibl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gative Sa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itive Sa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111320"/>
            <a:ext cx="342900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anc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haming is a San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n Be Centerpiece of Public Ritu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gradation Ceremon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714240"/>
            <a:ext cx="784872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haming and Degradation Ceremon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ok for Answers Inside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etic Predispos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1219320"/>
            <a:ext cx="78487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cuses on Abnormalities Within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sonality Disor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t Personali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1187280"/>
            <a:ext cx="78487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7" dur="1" fill="hold"/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18:53Z</dcterms:modified>
  <cp:revision>178</cp:revision>
  <dc:subject>Chapter 8:Deviance and Social Control</dc:subject>
  <dc:title>Sociology: A Down-to-Earth Approach, 8/e</dc:title>
</cp:coreProperties>
</file>